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6DC-A877-4386-B097-81D51F3F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AA7-5A9F-4B50-8A92-1125CD14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10A-D97C-43F9-8CAD-1A29B10C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611-AB98-403B-85F8-DBE97BDB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AEB-D7F7-47FF-9D09-53278F39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E76-8FD4-4A14-9D60-405D5FFA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FF8-DC96-4D5E-B995-E9094604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A98-2CD8-49D4-BD95-5A170DA8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EC3-45EA-47DE-A3CB-EF230455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DAC-5F65-4922-A0F4-3C2E5397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E08-CA65-4AC2-8ED4-86378E72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27A-7506-4AC5-9A24-67BC090E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FA1F-C570-428D-A63F-69C09E833CAE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360-A2F6-4D26-9D1C-CB9633ABBCAA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70520" y="0"/>
            <a:ext cx="4173480" cy="636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3467160" cy="1549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30120" y="3486240"/>
            <a:ext cx="416556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600200"/>
            <a:ext cx="9144000" cy="13737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frame_title N2+ file b MCD -1- minus 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addlines operator -1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spectrum operator 1- scale -1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93356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19920" y="350532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F       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03120" y="685800"/>
            <a:ext cx="216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348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5736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1581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03120" y="685800"/>
            <a:ext cx="216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7160" y="681120"/>
            <a:ext cx="241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-pol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760" y="3657600"/>
            <a:ext cx="220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ft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8560" y="3657600"/>
            <a:ext cx="254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ight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0574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2690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6280" y="53352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+ cryst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6280" y="3505320"/>
            <a:ext cx="246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+ cryst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382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1675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 with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38440" y="53352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i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22440" y="358128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iO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019400" cy="5543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470560" y="762120"/>
            <a:ext cx="3673440" cy="56005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 in Ni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821120" cy="6324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 in Mn ox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rcRect l="12845" t="63375" r="12845" b="10696"/>
          <a:stretch/>
        </p:blipFill>
        <p:spPr>
          <a:xfrm>
            <a:off x="5181480" y="3989520"/>
            <a:ext cx="3962520" cy="2392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685800"/>
            <a:ext cx="91440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the rcg, rac, ban and plo files of als6ni2x1 to exct1 (or any other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the calculation from Ni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to Mn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3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Start by making the rcn-files for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and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s. Run TTRCN on them and replace the Ni parameters in the rcg-file with the M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un TTRCG, TTRAC and TTBAN on the Mn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Plot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exct1.ban in order to calc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spectrum of LaMnO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Verdan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ercise: Charge Transfer on Mn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3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7176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73760" y="457200"/>
            <a:ext cx="4170240" cy="5924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840" y="685800"/>
            <a:ext cx="22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2+: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66ff33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201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8160" y="36781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492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32120" y="609480"/>
            <a:ext cx="1489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5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3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35053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0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8160" y="36781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492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32120" y="609480"/>
            <a:ext cx="1489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5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3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3000" y="35053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7200"/>
            <a:ext cx="9144000" cy="2590920"/>
          </a:xfrm>
          <a:prstGeom prst="rect">
            <a:avLst/>
          </a:prstGeom>
          <a:solidFill>
            <a:srgbClr val="e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609480"/>
            <a:ext cx="9143640" cy="2401560"/>
            <a:chOff x="0" y="609480"/>
            <a:chExt cx="9143640" cy="2401560"/>
          </a:xfrm>
        </p:grpSpPr>
        <p:grpSp>
          <p:nvGrpSpPr>
            <p:cNvPr id="117" name=""/>
            <p:cNvGrpSpPr/>
            <p:nvPr/>
          </p:nvGrpSpPr>
          <p:grpSpPr>
            <a:xfrm>
              <a:off x="6840" y="615240"/>
              <a:ext cx="9128160" cy="2388960"/>
              <a:chOff x="6840" y="615240"/>
              <a:chExt cx="9128160" cy="23889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6840" y="615240"/>
                <a:ext cx="1825560" cy="821880"/>
                <a:chOff x="6840" y="615240"/>
                <a:chExt cx="1825560" cy="8218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090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8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832760" y="615240"/>
                <a:ext cx="1824840" cy="821880"/>
                <a:chOff x="1832760" y="615240"/>
                <a:chExt cx="1824840" cy="821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9342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8327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658320" y="615240"/>
                <a:ext cx="1825560" cy="821880"/>
                <a:chOff x="3658320" y="615240"/>
                <a:chExt cx="1825560" cy="8218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76056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65832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5484240" y="615240"/>
                <a:ext cx="1825560" cy="821880"/>
                <a:chOff x="5484240" y="615240"/>
                <a:chExt cx="1825560" cy="821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5864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X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4842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310160" y="615240"/>
                <a:ext cx="1824840" cy="821880"/>
                <a:chOff x="7310160" y="615240"/>
                <a:chExt cx="1824840" cy="82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4116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MC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3101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840" y="1437480"/>
                <a:ext cx="1825560" cy="783000"/>
                <a:chOff x="6840" y="1437480"/>
                <a:chExt cx="1825560" cy="7830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90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8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832760" y="1437480"/>
                <a:ext cx="1824840" cy="783000"/>
                <a:chOff x="1832760" y="1437480"/>
                <a:chExt cx="1824840" cy="7830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9342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 (*R</a:t>
                  </a:r>
                  <a:r>
                    <a:rPr b="1" lang="en-US" sz="2400" spc="-1" strike="noStrike" baseline="30000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/9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8327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658320" y="1437480"/>
                <a:ext cx="1825560" cy="783000"/>
                <a:chOff x="3658320" y="1437480"/>
                <a:chExt cx="1825560" cy="7830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76056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5832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484240" y="1437480"/>
                <a:ext cx="1825560" cy="783000"/>
                <a:chOff x="5484240" y="1437480"/>
                <a:chExt cx="1825560" cy="7830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5864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42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310160" y="1437480"/>
                <a:ext cx="1824840" cy="783000"/>
                <a:chOff x="7310160" y="1437480"/>
                <a:chExt cx="1824840" cy="7830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4116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101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840" y="2220840"/>
                <a:ext cx="1825560" cy="783360"/>
                <a:chOff x="6840" y="2220840"/>
                <a:chExt cx="1825560" cy="7833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90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8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832760" y="2220840"/>
                <a:ext cx="1824840" cy="783360"/>
                <a:chOff x="1832760" y="2220840"/>
                <a:chExt cx="1824840" cy="783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9342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8327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658320" y="2220840"/>
                <a:ext cx="1825560" cy="783360"/>
                <a:chOff x="3658320" y="2220840"/>
                <a:chExt cx="1825560" cy="783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76056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5832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484240" y="2220840"/>
                <a:ext cx="1825560" cy="783360"/>
                <a:chOff x="5484240" y="2220840"/>
                <a:chExt cx="1825560" cy="783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5864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4842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310160" y="2220840"/>
                <a:ext cx="1824840" cy="783360"/>
                <a:chOff x="7310160" y="2220840"/>
                <a:chExt cx="1824840" cy="7833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4116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101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0" y="609480"/>
              <a:ext cx="9143640" cy="240156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32120" y="609480"/>
            <a:ext cx="1489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5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3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52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3d spin-orbit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multi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57200"/>
            <a:ext cx="9144000" cy="2590920"/>
          </a:xfrm>
          <a:prstGeom prst="rect">
            <a:avLst/>
          </a:prstGeom>
          <a:solidFill>
            <a:srgbClr val="e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609480"/>
            <a:ext cx="9143640" cy="2401560"/>
            <a:chOff x="0" y="609480"/>
            <a:chExt cx="9143640" cy="2401560"/>
          </a:xfrm>
        </p:grpSpPr>
        <p:grpSp>
          <p:nvGrpSpPr>
            <p:cNvPr id="172" name=""/>
            <p:cNvGrpSpPr/>
            <p:nvPr/>
          </p:nvGrpSpPr>
          <p:grpSpPr>
            <a:xfrm>
              <a:off x="6840" y="615240"/>
              <a:ext cx="9128160" cy="2388960"/>
              <a:chOff x="6840" y="615240"/>
              <a:chExt cx="9128160" cy="23889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6840" y="615240"/>
                <a:ext cx="1825560" cy="821880"/>
                <a:chOff x="6840" y="615240"/>
                <a:chExt cx="1825560" cy="8218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090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8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832760" y="615240"/>
                <a:ext cx="1824840" cy="821880"/>
                <a:chOff x="1832760" y="615240"/>
                <a:chExt cx="1824840" cy="8218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9342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327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658320" y="615240"/>
                <a:ext cx="1825560" cy="821880"/>
                <a:chOff x="3658320" y="615240"/>
                <a:chExt cx="1825560" cy="8218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76056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65832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484240" y="615240"/>
                <a:ext cx="1825560" cy="821880"/>
                <a:chOff x="5484240" y="615240"/>
                <a:chExt cx="1825560" cy="8218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5864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X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4842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310160" y="615240"/>
                <a:ext cx="1824840" cy="821880"/>
                <a:chOff x="7310160" y="615240"/>
                <a:chExt cx="1824840" cy="8218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4116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MC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101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840" y="1437480"/>
                <a:ext cx="1825560" cy="783000"/>
                <a:chOff x="6840" y="1437480"/>
                <a:chExt cx="1825560" cy="783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090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8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832760" y="1437480"/>
                <a:ext cx="1824840" cy="783000"/>
                <a:chOff x="1832760" y="1437480"/>
                <a:chExt cx="1824840" cy="783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342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 (*R</a:t>
                  </a:r>
                  <a:r>
                    <a:rPr b="1" lang="en-US" sz="2400" spc="-1" strike="noStrike" baseline="30000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/9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8327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658320" y="1437480"/>
                <a:ext cx="1825560" cy="783000"/>
                <a:chOff x="3658320" y="1437480"/>
                <a:chExt cx="1825560" cy="783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6056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65832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484240" y="1437480"/>
                <a:ext cx="1825560" cy="783000"/>
                <a:chOff x="5484240" y="1437480"/>
                <a:chExt cx="1825560" cy="783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5864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842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310160" y="1437480"/>
                <a:ext cx="1824840" cy="783000"/>
                <a:chOff x="7310160" y="1437480"/>
                <a:chExt cx="1824840" cy="783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4116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101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840" y="2220840"/>
                <a:ext cx="1825560" cy="783360"/>
                <a:chOff x="6840" y="2220840"/>
                <a:chExt cx="1825560" cy="783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090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8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832760" y="2220840"/>
                <a:ext cx="1824840" cy="783360"/>
                <a:chOff x="1832760" y="2220840"/>
                <a:chExt cx="1824840" cy="783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9342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8327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658320" y="2220840"/>
                <a:ext cx="1825560" cy="783360"/>
                <a:chOff x="3658320" y="2220840"/>
                <a:chExt cx="1825560" cy="7833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76056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65832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484240" y="2220840"/>
                <a:ext cx="1825560" cy="783360"/>
                <a:chOff x="5484240" y="2220840"/>
                <a:chExt cx="1825560" cy="7833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5864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4842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7310160" y="2220840"/>
                <a:ext cx="1824840" cy="783360"/>
                <a:chOff x="7310160" y="2220840"/>
                <a:chExt cx="1824840" cy="7833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4116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3101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0" y="609480"/>
              <a:ext cx="9143640" cy="240156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151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382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382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99320" y="60948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3280" y="6094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99360" y="365760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+ cryst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06960" y="358128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600200"/>
            <a:ext cx="12420720" cy="703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2    4    1    1  INTER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shell03000000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spin03000000 orbit03000000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Add spin03 and orbit03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609480"/>
            <a:ext cx="9144000" cy="10505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% vertical 1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utler O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D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C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end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ground  PRINTE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HAMILT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HEL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P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ORB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excite  PRINTE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P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ORB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1- left        transi PRINTTR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&gt;  1- &gt;  1- 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-1- right       transi PRINTTR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&gt;  1- &gt; -1- 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- parallel    transi PRINTTR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&gt; ^0- &gt;  0- 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-4572000"/>
            <a:ext cx="9144000" cy="110595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% vertical 1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utler O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D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C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end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ground  PRINTE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HAMILT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HEL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P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ORB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excite  PRINTE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P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ORB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1- left        transi PRINTTR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1- &gt; 0 1- &gt;  1- &gt;  1-  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-1- right       transi PRINTTR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1- &gt; 0 1- &gt;  1- &gt; -1-  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- parallel    transi PRINTTR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1- &gt; 0 1- &gt; ^0- &gt;  0-  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22:07:30Z</dcterms:modified>
  <cp:revision>275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